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F7B4-6916-426B-9680-4470808FA2B4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hanged the background to a soft gray to see if you like it. It is easier on the e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96B3-D78E-4D96-A1D6-F247AE7A129E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6184-5DFE-4AFB-858F-8E482679B91C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CF64-A9E1-426A-8631-D0E1C8C5B263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6D4C-7FBA-4150-9434-B691B11D8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5ACA-BBAE-45F0-B103-8A838AE9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B6078-3C46-4E94-886C-E6083C18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7D19C-5A8D-4CFE-BBC6-8C9C9474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D972C-8C93-4F7C-A33B-B3DB0C16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2B8D6-53F9-4588-9754-E1E69A7C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56EEB-FB81-40F1-BCD7-6A4F6BA4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A7FDD-4D1C-469E-B000-F5F0B75A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6F202-E577-4A5B-9580-769F0A34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9EF22-0E0A-4DA9-8950-FA07EB373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BC9B7-3FA3-40BC-8EE5-72C979AE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079A0D-69E6-4F36-A99E-114F1380F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487F-7843-49FE-8F7D-97C786F4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22112A-E550-48D8-9469-7352E228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3F0BF8-1914-43F3-B604-452538E8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0321F-23E7-44F2-A656-E278EC77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8BF25-106E-431A-B45D-08889F91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053DD0-CD4E-465E-A78A-57917A58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CE171C-700B-463F-BCA9-733280B4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F41C3-95A6-4872-B9FA-2AD38AE6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A94A19-76B7-48F5-B527-75AA164E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71250F-8B99-4979-BE8E-14A02CF1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A9DF0-8C91-4F67-80A6-A6031CD87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7873-A8F6-4AEF-8DE2-76FB624F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A1399-9652-4CA4-990B-C0681874F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1CF3E-A2AB-4B9A-AB44-755A00BBF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0A208-CC0F-429B-A7B9-64337496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561D3-9F5E-47F7-8BD2-89676DD3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0D660-5404-49F5-800A-086CED5E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4A0C3-331E-4500-BEF0-7CD0058F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01F36-5919-42EE-950A-FA52DEC8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35374-5818-42A8-AC88-5D2DCE7D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FC253-1BF6-45DB-9A7C-B95B9931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722EF-1579-4C23-A6FD-CADA263D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883B6-5800-418E-A376-6BFBE65A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FA78E-A92A-4CA6-80AA-77D3BC7F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80969-41E5-4F6E-A9E8-DA767CDC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E1B06-AAA6-401D-8AC8-07DD806C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35AD3-50D1-426D-8229-53C8AB79E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7ACF6F-BEE8-4509-BB84-ED2729E3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3C664-494D-4D4E-B98C-ED85D60F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203AC2-318E-431F-AAED-0C3A6056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9908E4-E7AE-4D47-BE27-CFB4756E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FF558-AEAF-41CB-80D7-71A7FC9E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925298-4229-4571-9036-1B98534E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68C9E-3B5E-44EC-A049-1572A1A0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069C2-1FC5-4E1C-A961-493D9B89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4953C8-7D24-4E68-AD5B-4898C412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648D61-C0CF-4585-ADFA-9B02EE0D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83752-541D-4043-8B06-55F7186F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54F29-62AA-4C0A-8E68-0C029CA12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13BD7-E141-415F-9715-B37D4E2B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7E4F3-8CEF-4192-ABA7-2664C6B8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7FBDB-E1CF-4AC6-9CFA-F4F86CAD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DC038-2D57-4EF2-9AD6-EB2C45DD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B3EAB-1620-4BF6-A0A3-1E99B2F8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EB21-1E85-4C4F-9E60-6219B78C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30E8D-5D87-4582-A300-E1CB5AE4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36D7A-C344-470B-8DDA-0532045A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DAD93-9024-4941-96EC-AAD62633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52DAC-1DF4-41B7-9AB4-07A4E2CE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B5DB3-F68B-43CD-BD53-E5D4B8FD9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71CA5-57E0-447B-859F-A2306EB4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10ECA-6FD6-42CC-828A-D99FCDFF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9E311-3650-43BA-8995-AA655EA5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03CF0-23DA-4DAD-9E11-CE05E13F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95735-2F36-4AEC-AD62-DD9ED9D0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2F16-9BE9-4B8C-9DA1-BFBA25A5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00346-1636-4C3D-81D4-53D3AC2D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E5E55-E0FF-4F66-AD8E-20BCFF3B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048F6-76DF-4158-B9C6-677FD436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FD935-E58D-4018-AD43-561A3916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38467-5C30-44A9-9D3A-0842B980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EF99B-1D24-48DB-8EB8-9CE98A1A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DC4A7-DFE2-40A0-8F6C-DDDC0E4D8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FA64B-EC69-4ABD-A87D-43512E700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6E7B8-7315-4560-AC60-D465C754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87711-E674-4DF2-B3B7-163E5A93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BE71-FCFA-46B8-BD05-5C254664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8C084-D3EA-42EC-9B4B-696CC653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F24A8-8146-41E8-B1E8-DD2AB7E4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E9B62-CEDB-472D-A30E-110F90D7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68A3D-1D9A-4534-8142-671EBE86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1B774-2C36-4280-9F62-F4895C26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D7E1E-3F6C-492D-8137-068D4C0D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744EC-1A24-4C58-82AE-ACC39883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C31E2-4703-4400-BC50-EF9031F4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52A7D-D2A8-461A-99EF-D12ACE069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152A4-A064-4858-82C0-BF3B2245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8265-E768-43FF-A52D-D7793518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12F8B-2A27-4BF5-92BE-C29B5319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39828-7B06-48CE-BA7A-D27EA45D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385C0-AF09-4C4F-B661-78AA8F94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E82AE-5646-447C-A5CD-39809F84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5254A-0C0C-46A7-96C2-9AE4F90C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32925-AA09-482E-AF7E-E98CD559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642CD-9030-41F9-847C-715E4812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168E8-0A78-4268-9FE0-7A264B4F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44A8F-8C0E-454C-AC63-81940BCA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0CEB2-DBAB-4C4B-89B7-7BC28DA3C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355D-9A71-402D-B4F1-91C22F88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54C93-9C00-410D-B457-37160194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1CA9C-DF63-4C27-A67E-17F80FE2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BE790-531B-42B1-873C-D5BFDD8B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85D4F-987F-47DE-88A6-6039DD1A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E7A90-0639-48A5-AADB-0DF15886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B4EF7-6C0D-4586-8E69-8539EE83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CD5D5-19C7-4F23-8006-F0C9039A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41847-D3FE-4E70-8D49-57E5E64A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2F833-4DAB-4596-9097-A05B62C6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1B1DE-351A-416F-A5A7-420CCA9A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E4CC-8740-478A-9A2E-36370033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AD5DC-DCD2-4F63-B4EC-11A378BF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61B31-300D-4AA2-8E62-47624B7E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3FCC2-1A16-464D-A6CB-8EDA928D9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FA601-EE1F-4A88-9A32-B0BFB07C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C439C-D36C-4373-8583-F1CA8C99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9ED5A-5118-4ED5-BB42-2772AB02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20308-453F-4832-940B-7E8AFEC7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390C4-BE1A-4B6F-9CF0-F1386F57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AC24C-CA63-41A3-A29E-5B802569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452A2-A4B5-48FE-9ACE-7D7546B4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83E1-A00A-44E2-8792-FDAAE832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89A3B-4475-419B-9BFA-851A5C03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54CF0-FE09-4858-B280-1E076195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4C64B-E4BD-44B1-888A-276E7CA9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B86B9-33EF-4F33-8CEF-74579C71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9C204-5BF6-42C7-B602-CB672E5CC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DF578-46A9-4309-A417-A92C5CB1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469A4-A0DD-4567-B713-342E3194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29C76-0270-4DC3-99D0-CF8EFBF8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B632C-7F9F-4ED5-B718-BF0A0B81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B2AF9-51D7-4D2A-9C37-800C16AD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7C89-6575-4101-B44C-E87517B3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C3207-9A30-4382-81B8-D8BD8E04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F518F-C97B-46CB-B387-7573FF1F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6EEEB-DC0D-4754-A10C-978EAC53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45830-8297-4789-8D09-4F800725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559C7-1F88-4F31-ADE6-F86D6EC5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224CD-3CE0-4229-B6AB-9E34F2DD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396D6-3979-4DE2-B1BC-949A65568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D85A2-6223-4158-95E8-C63785BD2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07DFB-B4B8-4F07-A81A-9B8AB6C3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A7988-B39B-49DD-BBFF-CF092B67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1920" y="632448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019560" y="63244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5784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8"/>
          </p:nvPr>
        </p:nvSpPr>
        <p:spPr>
          <a:xfrm>
            <a:off x="151920" y="632448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29"/>
          </p:nvPr>
        </p:nvSpPr>
        <p:spPr>
          <a:xfrm>
            <a:off x="6019560" y="63244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0"/>
          </p:nvPr>
        </p:nvSpPr>
        <p:spPr>
          <a:xfrm>
            <a:off x="845784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76FA-E657-4ECC-849F-89BA65C99B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1"/>
          </p:nvPr>
        </p:nvSpPr>
        <p:spPr>
          <a:xfrm>
            <a:off x="151920" y="632448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2"/>
          </p:nvPr>
        </p:nvSpPr>
        <p:spPr>
          <a:xfrm>
            <a:off x="6019560" y="63244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3"/>
          </p:nvPr>
        </p:nvSpPr>
        <p:spPr>
          <a:xfrm>
            <a:off x="845784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B470-DD07-49F5-B6F0-D3CEDCD073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4"/>
          </p:nvPr>
        </p:nvSpPr>
        <p:spPr>
          <a:xfrm>
            <a:off x="151920" y="632448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5"/>
          </p:nvPr>
        </p:nvSpPr>
        <p:spPr>
          <a:xfrm>
            <a:off x="6019560" y="63244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6"/>
          </p:nvPr>
        </p:nvSpPr>
        <p:spPr>
          <a:xfrm>
            <a:off x="845784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7DD6-3D20-46BC-93E5-A7ADCE7F20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6248160" y="6324120"/>
            <a:ext cx="1523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8152920" y="6324120"/>
            <a:ext cx="838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1.2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dt" idx="6"/>
          </p:nvPr>
        </p:nvSpPr>
        <p:spPr>
          <a:xfrm>
            <a:off x="151920" y="6324120"/>
            <a:ext cx="5791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-36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6019560" y="63244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45784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151920" y="632448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6019560" y="63244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45784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5354-F46D-44D5-BCFC-7815F7C557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151920" y="632448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6019560" y="63244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45784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2210-F69B-493A-84AD-3E6E81DF1E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151920" y="632448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6019560" y="63244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845784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EB8C-F123-4D8F-B424-CBFC320B4B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151920" y="632448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6019560" y="63244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45784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B275-93DC-4973-9697-5C59F1E790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2"/>
          </p:nvPr>
        </p:nvSpPr>
        <p:spPr>
          <a:xfrm>
            <a:off x="151920" y="632448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3"/>
          </p:nvPr>
        </p:nvSpPr>
        <p:spPr>
          <a:xfrm>
            <a:off x="6019560" y="63244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4"/>
          </p:nvPr>
        </p:nvSpPr>
        <p:spPr>
          <a:xfrm>
            <a:off x="845784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81F9-1615-470D-9699-58CBBEAFCB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5"/>
          </p:nvPr>
        </p:nvSpPr>
        <p:spPr>
          <a:xfrm>
            <a:off x="151920" y="632448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6"/>
          </p:nvPr>
        </p:nvSpPr>
        <p:spPr>
          <a:xfrm>
            <a:off x="6019560" y="63244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7"/>
          </p:nvPr>
        </p:nvSpPr>
        <p:spPr>
          <a:xfrm>
            <a:off x="845784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47A1-2BA6-45F2-B600-3C615286E5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040" y="144756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ffective Training: Systems, Strategies and Practices,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4</a:t>
            </a:r>
            <a:r>
              <a:rPr b="0" lang="en-US" sz="36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 Edi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pter 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. Nick Blanchard and  James W. Thack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lide Number Placeholder 5"/>
          <p:cNvSpPr/>
          <p:nvPr/>
        </p:nvSpPr>
        <p:spPr>
          <a:xfrm>
            <a:off x="8305920" y="6324480"/>
            <a:ext cx="838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General Open Systems Mod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1" name="Footer Placeholder 3"/>
          <p:cNvSpPr/>
          <p:nvPr/>
        </p:nvSpPr>
        <p:spPr>
          <a:xfrm>
            <a:off x="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16"/>
          <p:cNvGrpSpPr/>
          <p:nvPr/>
        </p:nvGrpSpPr>
        <p:grpSpPr>
          <a:xfrm>
            <a:off x="838080" y="2928960"/>
            <a:ext cx="7386840" cy="2500200"/>
            <a:chOff x="838080" y="2928960"/>
            <a:chExt cx="7386840" cy="2500200"/>
          </a:xfrm>
        </p:grpSpPr>
        <p:grpSp>
          <p:nvGrpSpPr>
            <p:cNvPr id="593" name="Group 15"/>
            <p:cNvGrpSpPr/>
            <p:nvPr/>
          </p:nvGrpSpPr>
          <p:grpSpPr>
            <a:xfrm>
              <a:off x="838080" y="2928960"/>
              <a:ext cx="7386840" cy="2500200"/>
              <a:chOff x="838080" y="2928960"/>
              <a:chExt cx="7386840" cy="2500200"/>
            </a:xfrm>
          </p:grpSpPr>
          <p:sp>
            <p:nvSpPr>
              <p:cNvPr id="594" name="Text Box 4"/>
              <p:cNvSpPr/>
              <p:nvPr/>
            </p:nvSpPr>
            <p:spPr>
              <a:xfrm>
                <a:off x="838080" y="2928960"/>
                <a:ext cx="7386840" cy="174924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OPEN  SYSTE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INPUT                        PROCESS                      OUTPU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5"/>
              <p:cNvSpPr/>
              <p:nvPr/>
            </p:nvSpPr>
            <p:spPr>
              <a:xfrm>
                <a:off x="2286000" y="3746520"/>
                <a:ext cx="1359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6"/>
              <p:cNvSpPr/>
              <p:nvPr/>
            </p:nvSpPr>
            <p:spPr>
              <a:xfrm>
                <a:off x="5181480" y="3746520"/>
                <a:ext cx="129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Line 7"/>
              <p:cNvSpPr/>
              <p:nvPr/>
            </p:nvSpPr>
            <p:spPr>
              <a:xfrm flipH="1">
                <a:off x="6629040" y="5060880"/>
                <a:ext cx="120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Text Box 8"/>
              <p:cNvSpPr/>
              <p:nvPr/>
            </p:nvSpPr>
            <p:spPr>
              <a:xfrm>
                <a:off x="3048120" y="4846680"/>
                <a:ext cx="3619440" cy="58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ystems External Environme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9"/>
              <p:cNvSpPr/>
              <p:nvPr/>
            </p:nvSpPr>
            <p:spPr>
              <a:xfrm>
                <a:off x="7835760" y="3733920"/>
                <a:ext cx="0" cy="134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10"/>
              <p:cNvSpPr/>
              <p:nvPr/>
            </p:nvSpPr>
            <p:spPr>
              <a:xfrm>
                <a:off x="1809720" y="3886200"/>
                <a:ext cx="0" cy="116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Line 11"/>
              <p:cNvSpPr/>
              <p:nvPr/>
            </p:nvSpPr>
            <p:spPr>
              <a:xfrm flipH="1">
                <a:off x="1809720" y="5041800"/>
                <a:ext cx="116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Line 12"/>
            <p:cNvSpPr/>
            <p:nvPr/>
          </p:nvSpPr>
          <p:spPr>
            <a:xfrm flipH="1">
              <a:off x="7696080" y="374328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Slide Number Placeholder 17"/>
          <p:cNvSpPr/>
          <p:nvPr/>
        </p:nvSpPr>
        <p:spPr>
          <a:xfrm>
            <a:off x="8458200" y="63244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Training as a Subsystem within the Organizational System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Footer Placeholder 3"/>
          <p:cNvSpPr/>
          <p:nvPr/>
        </p:nvSpPr>
        <p:spPr>
          <a:xfrm>
            <a:off x="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Group 119"/>
          <p:cNvGrpSpPr/>
          <p:nvPr/>
        </p:nvGrpSpPr>
        <p:grpSpPr>
          <a:xfrm>
            <a:off x="1447920" y="2057400"/>
            <a:ext cx="6172200" cy="4343400"/>
            <a:chOff x="1447920" y="2057400"/>
            <a:chExt cx="6172200" cy="4343400"/>
          </a:xfrm>
        </p:grpSpPr>
        <p:sp>
          <p:nvSpPr>
            <p:cNvPr id="607" name="Rectangle 70"/>
            <p:cNvSpPr/>
            <p:nvPr/>
          </p:nvSpPr>
          <p:spPr>
            <a:xfrm>
              <a:off x="2057400" y="3124800"/>
              <a:ext cx="63360" cy="63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71"/>
            <p:cNvSpPr/>
            <p:nvPr/>
          </p:nvSpPr>
          <p:spPr>
            <a:xfrm>
              <a:off x="1981080" y="3733200"/>
              <a:ext cx="231840" cy="24732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46" h="166">
                  <a:moveTo>
                    <a:pt x="73" y="166"/>
                  </a:moveTo>
                  <a:lnTo>
                    <a:pt x="0" y="0"/>
                  </a:lnTo>
                  <a:lnTo>
                    <a:pt x="73" y="40"/>
                  </a:lnTo>
                  <a:lnTo>
                    <a:pt x="146" y="0"/>
                  </a:lnTo>
                  <a:lnTo>
                    <a:pt x="73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73"/>
            <p:cNvSpPr/>
            <p:nvPr/>
          </p:nvSpPr>
          <p:spPr>
            <a:xfrm>
              <a:off x="2514600" y="3733200"/>
              <a:ext cx="231840" cy="24732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46" h="166">
                  <a:moveTo>
                    <a:pt x="73" y="166"/>
                  </a:moveTo>
                  <a:lnTo>
                    <a:pt x="0" y="0"/>
                  </a:lnTo>
                  <a:lnTo>
                    <a:pt x="73" y="39"/>
                  </a:lnTo>
                  <a:lnTo>
                    <a:pt x="146" y="0"/>
                  </a:lnTo>
                  <a:lnTo>
                    <a:pt x="73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75"/>
            <p:cNvSpPr/>
            <p:nvPr/>
          </p:nvSpPr>
          <p:spPr>
            <a:xfrm>
              <a:off x="6934320" y="3047400"/>
              <a:ext cx="231480" cy="24732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46" h="166">
                  <a:moveTo>
                    <a:pt x="73" y="0"/>
                  </a:moveTo>
                  <a:lnTo>
                    <a:pt x="146" y="166"/>
                  </a:lnTo>
                  <a:lnTo>
                    <a:pt x="73" y="126"/>
                  </a:lnTo>
                  <a:lnTo>
                    <a:pt x="0" y="166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78"/>
            <p:cNvSpPr/>
            <p:nvPr/>
          </p:nvSpPr>
          <p:spPr>
            <a:xfrm>
              <a:off x="1806480" y="4343040"/>
              <a:ext cx="1181160" cy="381600"/>
            </a:xfrm>
            <a:custGeom>
              <a:avLst/>
              <a:gdLst>
                <a:gd name="textAreaLeft" fmla="*/ 0 w 1181160"/>
                <a:gd name="textAreaRight" fmla="*/ 1181520 w 118116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744" h="212">
                  <a:moveTo>
                    <a:pt x="13" y="192"/>
                  </a:moveTo>
                  <a:lnTo>
                    <a:pt x="724" y="192"/>
                  </a:lnTo>
                  <a:lnTo>
                    <a:pt x="724" y="19"/>
                  </a:lnTo>
                  <a:lnTo>
                    <a:pt x="13" y="19"/>
                  </a:lnTo>
                  <a:lnTo>
                    <a:pt x="13" y="0"/>
                  </a:lnTo>
                  <a:lnTo>
                    <a:pt x="744" y="0"/>
                  </a:lnTo>
                  <a:lnTo>
                    <a:pt x="744" y="212"/>
                  </a:lnTo>
                  <a:lnTo>
                    <a:pt x="0" y="212"/>
                  </a:lnTo>
                  <a:lnTo>
                    <a:pt x="0" y="199"/>
                  </a:lnTo>
                  <a:lnTo>
                    <a:pt x="13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79"/>
            <p:cNvSpPr/>
            <p:nvPr/>
          </p:nvSpPr>
          <p:spPr>
            <a:xfrm>
              <a:off x="1792440" y="4343040"/>
              <a:ext cx="45720" cy="3816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20" h="199">
                  <a:moveTo>
                    <a:pt x="20" y="13"/>
                  </a:moveTo>
                  <a:lnTo>
                    <a:pt x="20" y="199"/>
                  </a:lnTo>
                  <a:lnTo>
                    <a:pt x="0" y="199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80"/>
            <p:cNvSpPr/>
            <p:nvPr/>
          </p:nvSpPr>
          <p:spPr>
            <a:xfrm>
              <a:off x="3537000" y="4343040"/>
              <a:ext cx="1751040" cy="381600"/>
            </a:xfrm>
            <a:custGeom>
              <a:avLst/>
              <a:gdLst>
                <a:gd name="textAreaLeft" fmla="*/ 0 w 1751040"/>
                <a:gd name="textAreaRight" fmla="*/ 1751400 w 175104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1103" h="219">
                  <a:moveTo>
                    <a:pt x="13" y="199"/>
                  </a:moveTo>
                  <a:lnTo>
                    <a:pt x="1083" y="199"/>
                  </a:lnTo>
                  <a:lnTo>
                    <a:pt x="1083" y="20"/>
                  </a:lnTo>
                  <a:lnTo>
                    <a:pt x="13" y="20"/>
                  </a:lnTo>
                  <a:lnTo>
                    <a:pt x="13" y="0"/>
                  </a:lnTo>
                  <a:lnTo>
                    <a:pt x="1103" y="0"/>
                  </a:lnTo>
                  <a:lnTo>
                    <a:pt x="1103" y="219"/>
                  </a:lnTo>
                  <a:lnTo>
                    <a:pt x="0" y="219"/>
                  </a:lnTo>
                  <a:lnTo>
                    <a:pt x="0" y="206"/>
                  </a:lnTo>
                  <a:lnTo>
                    <a:pt x="13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81"/>
            <p:cNvSpPr/>
            <p:nvPr/>
          </p:nvSpPr>
          <p:spPr>
            <a:xfrm flipH="1">
              <a:off x="3581280" y="4343040"/>
              <a:ext cx="46080" cy="381600"/>
            </a:xfrm>
            <a:custGeom>
              <a:avLst/>
              <a:gdLst>
                <a:gd name="textAreaLeft" fmla="*/ 360 w 46080"/>
                <a:gd name="textAreaRight" fmla="*/ 46800 w 4608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20" h="206">
                  <a:moveTo>
                    <a:pt x="20" y="13"/>
                  </a:moveTo>
                  <a:lnTo>
                    <a:pt x="20" y="206"/>
                  </a:lnTo>
                  <a:lnTo>
                    <a:pt x="0" y="20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82"/>
            <p:cNvSpPr/>
            <p:nvPr/>
          </p:nvSpPr>
          <p:spPr>
            <a:xfrm>
              <a:off x="5791320" y="4343040"/>
              <a:ext cx="1096920" cy="381600"/>
            </a:xfrm>
            <a:custGeom>
              <a:avLst/>
              <a:gdLst>
                <a:gd name="textAreaLeft" fmla="*/ 0 w 1096920"/>
                <a:gd name="textAreaRight" fmla="*/ 1097280 w 109692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691" h="219">
                  <a:moveTo>
                    <a:pt x="14" y="199"/>
                  </a:moveTo>
                  <a:lnTo>
                    <a:pt x="671" y="199"/>
                  </a:lnTo>
                  <a:lnTo>
                    <a:pt x="671" y="20"/>
                  </a:lnTo>
                  <a:lnTo>
                    <a:pt x="14" y="20"/>
                  </a:lnTo>
                  <a:lnTo>
                    <a:pt x="14" y="0"/>
                  </a:lnTo>
                  <a:lnTo>
                    <a:pt x="691" y="0"/>
                  </a:lnTo>
                  <a:lnTo>
                    <a:pt x="691" y="219"/>
                  </a:lnTo>
                  <a:lnTo>
                    <a:pt x="0" y="219"/>
                  </a:lnTo>
                  <a:lnTo>
                    <a:pt x="0" y="206"/>
                  </a:lnTo>
                  <a:lnTo>
                    <a:pt x="14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83"/>
            <p:cNvSpPr/>
            <p:nvPr/>
          </p:nvSpPr>
          <p:spPr>
            <a:xfrm>
              <a:off x="5776920" y="4343040"/>
              <a:ext cx="46080" cy="383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83040"/>
                <a:gd name="textAreaBottom" fmla="*/ 383400 h 383040"/>
              </a:gdLst>
              <a:ahLst/>
              <a:rect l="textAreaLeft" t="textAreaTop" r="textAreaRight" b="textAreaBottom"/>
              <a:pathLst>
                <a:path w="20" h="206">
                  <a:moveTo>
                    <a:pt x="20" y="13"/>
                  </a:moveTo>
                  <a:lnTo>
                    <a:pt x="20" y="206"/>
                  </a:lnTo>
                  <a:lnTo>
                    <a:pt x="0" y="206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84"/>
            <p:cNvSpPr/>
            <p:nvPr/>
          </p:nvSpPr>
          <p:spPr>
            <a:xfrm>
              <a:off x="3124080" y="3656880"/>
              <a:ext cx="28828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AINING SUBSYST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85"/>
            <p:cNvSpPr/>
            <p:nvPr/>
          </p:nvSpPr>
          <p:spPr>
            <a:xfrm>
              <a:off x="1751760" y="4878360"/>
              <a:ext cx="19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rganizational Nee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86"/>
            <p:cNvSpPr/>
            <p:nvPr/>
          </p:nvSpPr>
          <p:spPr>
            <a:xfrm>
              <a:off x="3959640" y="4878360"/>
              <a:ext cx="75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87"/>
            <p:cNvSpPr/>
            <p:nvPr/>
          </p:nvSpPr>
          <p:spPr>
            <a:xfrm>
              <a:off x="5789520" y="487656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88"/>
            <p:cNvSpPr/>
            <p:nvPr/>
          </p:nvSpPr>
          <p:spPr>
            <a:xfrm>
              <a:off x="1751040" y="5104800"/>
              <a:ext cx="154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mployee Nee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89"/>
            <p:cNvSpPr/>
            <p:nvPr/>
          </p:nvSpPr>
          <p:spPr>
            <a:xfrm>
              <a:off x="3961080" y="5104800"/>
              <a:ext cx="63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90"/>
            <p:cNvSpPr/>
            <p:nvPr/>
          </p:nvSpPr>
          <p:spPr>
            <a:xfrm>
              <a:off x="5788080" y="5103360"/>
              <a:ext cx="477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kil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91"/>
            <p:cNvSpPr/>
            <p:nvPr/>
          </p:nvSpPr>
          <p:spPr>
            <a:xfrm>
              <a:off x="1752120" y="5343480"/>
              <a:ext cx="64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udg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92"/>
            <p:cNvSpPr/>
            <p:nvPr/>
          </p:nvSpPr>
          <p:spPr>
            <a:xfrm>
              <a:off x="3961800" y="5343480"/>
              <a:ext cx="1197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93"/>
            <p:cNvSpPr/>
            <p:nvPr/>
          </p:nvSpPr>
          <p:spPr>
            <a:xfrm>
              <a:off x="5790960" y="5342040"/>
              <a:ext cx="79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ttitud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94"/>
            <p:cNvSpPr/>
            <p:nvPr/>
          </p:nvSpPr>
          <p:spPr>
            <a:xfrm>
              <a:off x="1751760" y="5570280"/>
              <a:ext cx="97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quip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95"/>
            <p:cNvSpPr/>
            <p:nvPr/>
          </p:nvSpPr>
          <p:spPr>
            <a:xfrm>
              <a:off x="3962520" y="5570280"/>
              <a:ext cx="1389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96"/>
            <p:cNvSpPr/>
            <p:nvPr/>
          </p:nvSpPr>
          <p:spPr>
            <a:xfrm>
              <a:off x="5790600" y="5568840"/>
              <a:ext cx="92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tiv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97"/>
            <p:cNvSpPr/>
            <p:nvPr/>
          </p:nvSpPr>
          <p:spPr>
            <a:xfrm>
              <a:off x="1752840" y="579852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98"/>
            <p:cNvSpPr/>
            <p:nvPr/>
          </p:nvSpPr>
          <p:spPr>
            <a:xfrm>
              <a:off x="3960720" y="5798520"/>
              <a:ext cx="95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valu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99"/>
            <p:cNvSpPr/>
            <p:nvPr/>
          </p:nvSpPr>
          <p:spPr>
            <a:xfrm>
              <a:off x="5792040" y="5796720"/>
              <a:ext cx="1546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ob Perform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100"/>
            <p:cNvSpPr/>
            <p:nvPr/>
          </p:nvSpPr>
          <p:spPr>
            <a:xfrm>
              <a:off x="2090880" y="4419000"/>
              <a:ext cx="608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101"/>
            <p:cNvSpPr/>
            <p:nvPr/>
          </p:nvSpPr>
          <p:spPr>
            <a:xfrm>
              <a:off x="3948120" y="4419000"/>
              <a:ext cx="990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102"/>
            <p:cNvSpPr/>
            <p:nvPr/>
          </p:nvSpPr>
          <p:spPr>
            <a:xfrm>
              <a:off x="5867640" y="4419000"/>
              <a:ext cx="83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103"/>
            <p:cNvSpPr/>
            <p:nvPr/>
          </p:nvSpPr>
          <p:spPr>
            <a:xfrm>
              <a:off x="1478520" y="2057400"/>
              <a:ext cx="5799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TRAINING’S ORGANIZATIO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104"/>
            <p:cNvSpPr/>
            <p:nvPr/>
          </p:nvSpPr>
          <p:spPr>
            <a:xfrm>
              <a:off x="1731600" y="2483640"/>
              <a:ext cx="691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s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105"/>
            <p:cNvSpPr/>
            <p:nvPr/>
          </p:nvSpPr>
          <p:spPr>
            <a:xfrm>
              <a:off x="2713320" y="2483640"/>
              <a:ext cx="75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106"/>
            <p:cNvSpPr/>
            <p:nvPr/>
          </p:nvSpPr>
          <p:spPr>
            <a:xfrm>
              <a:off x="3809160" y="2483640"/>
              <a:ext cx="82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107"/>
            <p:cNvSpPr/>
            <p:nvPr/>
          </p:nvSpPr>
          <p:spPr>
            <a:xfrm>
              <a:off x="4835520" y="2483640"/>
              <a:ext cx="703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lic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108"/>
            <p:cNvSpPr/>
            <p:nvPr/>
          </p:nvSpPr>
          <p:spPr>
            <a:xfrm>
              <a:off x="5819760" y="2483640"/>
              <a:ext cx="103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du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109"/>
            <p:cNvSpPr/>
            <p:nvPr/>
          </p:nvSpPr>
          <p:spPr>
            <a:xfrm>
              <a:off x="1732320" y="2671200"/>
              <a:ext cx="82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inan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110"/>
            <p:cNvSpPr/>
            <p:nvPr/>
          </p:nvSpPr>
          <p:spPr>
            <a:xfrm>
              <a:off x="2712240" y="2671200"/>
              <a:ext cx="97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111"/>
            <p:cNvSpPr/>
            <p:nvPr/>
          </p:nvSpPr>
          <p:spPr>
            <a:xfrm>
              <a:off x="3807000" y="2671200"/>
              <a:ext cx="63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12"/>
            <p:cNvSpPr/>
            <p:nvPr/>
          </p:nvSpPr>
          <p:spPr>
            <a:xfrm>
              <a:off x="4838400" y="2671200"/>
              <a:ext cx="802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113"/>
            <p:cNvSpPr/>
            <p:nvPr/>
          </p:nvSpPr>
          <p:spPr>
            <a:xfrm>
              <a:off x="5818320" y="2671200"/>
              <a:ext cx="1050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117"/>
            <p:cNvSpPr/>
            <p:nvPr/>
          </p:nvSpPr>
          <p:spPr>
            <a:xfrm>
              <a:off x="1447920" y="3505320"/>
              <a:ext cx="6172200" cy="28954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75"/>
            <p:cNvSpPr/>
            <p:nvPr/>
          </p:nvSpPr>
          <p:spPr>
            <a:xfrm>
              <a:off x="6400800" y="3047400"/>
              <a:ext cx="231840" cy="24732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46" h="166">
                  <a:moveTo>
                    <a:pt x="73" y="0"/>
                  </a:moveTo>
                  <a:lnTo>
                    <a:pt x="146" y="166"/>
                  </a:lnTo>
                  <a:lnTo>
                    <a:pt x="73" y="126"/>
                  </a:lnTo>
                  <a:lnTo>
                    <a:pt x="0" y="166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72"/>
            <p:cNvSpPr/>
            <p:nvPr/>
          </p:nvSpPr>
          <p:spPr>
            <a:xfrm>
              <a:off x="2590920" y="3123360"/>
              <a:ext cx="63360" cy="63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Slide Number Placeholder 51"/>
          <p:cNvSpPr/>
          <p:nvPr/>
        </p:nvSpPr>
        <p:spPr>
          <a:xfrm>
            <a:off x="8458200" y="63244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72"/>
          <p:cNvSpPr/>
          <p:nvPr/>
        </p:nvSpPr>
        <p:spPr>
          <a:xfrm>
            <a:off x="6477120" y="3276720"/>
            <a:ext cx="63360" cy="63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72"/>
          <p:cNvSpPr/>
          <p:nvPr/>
        </p:nvSpPr>
        <p:spPr>
          <a:xfrm>
            <a:off x="7010280" y="3276720"/>
            <a:ext cx="63720" cy="63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Training Processes Mod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4" name="Footer Placeholder 3"/>
          <p:cNvSpPr/>
          <p:nvPr/>
        </p:nvSpPr>
        <p:spPr>
          <a:xfrm>
            <a:off x="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Group 124"/>
          <p:cNvGrpSpPr/>
          <p:nvPr/>
        </p:nvGrpSpPr>
        <p:grpSpPr>
          <a:xfrm>
            <a:off x="914400" y="1981080"/>
            <a:ext cx="7756560" cy="4419360"/>
            <a:chOff x="914400" y="1981080"/>
            <a:chExt cx="7756560" cy="4419360"/>
          </a:xfrm>
        </p:grpSpPr>
        <p:grpSp>
          <p:nvGrpSpPr>
            <p:cNvPr id="656" name="Group 123"/>
            <p:cNvGrpSpPr/>
            <p:nvPr/>
          </p:nvGrpSpPr>
          <p:grpSpPr>
            <a:xfrm>
              <a:off x="1722600" y="1981080"/>
              <a:ext cx="6948360" cy="4419360"/>
              <a:chOff x="1722600" y="1981080"/>
              <a:chExt cx="6948360" cy="4419360"/>
            </a:xfrm>
          </p:grpSpPr>
          <p:grpSp>
            <p:nvGrpSpPr>
              <p:cNvPr id="657" name="Group 122"/>
              <p:cNvGrpSpPr/>
              <p:nvPr/>
            </p:nvGrpSpPr>
            <p:grpSpPr>
              <a:xfrm>
                <a:off x="1722600" y="1981080"/>
                <a:ext cx="6948360" cy="4419360"/>
                <a:chOff x="1722600" y="1981080"/>
                <a:chExt cx="6948360" cy="4419360"/>
              </a:xfrm>
            </p:grpSpPr>
            <p:sp>
              <p:nvSpPr>
                <p:cNvPr id="658" name="Text Box 104"/>
                <p:cNvSpPr/>
                <p:nvPr/>
              </p:nvSpPr>
              <p:spPr>
                <a:xfrm>
                  <a:off x="4286160" y="5507640"/>
                  <a:ext cx="1086120" cy="415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utcom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Evaluatio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Text Box 55"/>
                <p:cNvSpPr/>
                <p:nvPr/>
              </p:nvSpPr>
              <p:spPr>
                <a:xfrm>
                  <a:off x="1722600" y="1981080"/>
                  <a:ext cx="2773080" cy="562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182880" tIns="46800" bIns="0" anchor="t">
                  <a:noAutofit/>
                </a:bodyPr>
                <a:p>
                  <a:pPr algn="ctr">
                    <a:spcAft>
                      <a:spcPts val="6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Needs Analysis Phas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Input     Process    Outpu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Line 58"/>
                <p:cNvSpPr/>
                <p:nvPr/>
              </p:nvSpPr>
              <p:spPr>
                <a:xfrm>
                  <a:off x="4505400" y="2278080"/>
                  <a:ext cx="19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Line 59"/>
                <p:cNvSpPr/>
                <p:nvPr/>
              </p:nvSpPr>
              <p:spPr>
                <a:xfrm>
                  <a:off x="4686480" y="2263680"/>
                  <a:ext cx="0" cy="437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Line 60"/>
                <p:cNvSpPr/>
                <p:nvPr/>
              </p:nvSpPr>
              <p:spPr>
                <a:xfrm flipH="1">
                  <a:off x="2273040" y="2686680"/>
                  <a:ext cx="2431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Line 61"/>
                <p:cNvSpPr/>
                <p:nvPr/>
              </p:nvSpPr>
              <p:spPr>
                <a:xfrm>
                  <a:off x="2292480" y="2686680"/>
                  <a:ext cx="0" cy="440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Line 62"/>
                <p:cNvSpPr/>
                <p:nvPr/>
              </p:nvSpPr>
              <p:spPr>
                <a:xfrm>
                  <a:off x="2286000" y="3108960"/>
                  <a:ext cx="196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Line 63"/>
                <p:cNvSpPr/>
                <p:nvPr/>
              </p:nvSpPr>
              <p:spPr>
                <a:xfrm>
                  <a:off x="5457960" y="3390840"/>
                  <a:ext cx="1847880" cy="1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Line 64"/>
                <p:cNvSpPr/>
                <p:nvPr/>
              </p:nvSpPr>
              <p:spPr>
                <a:xfrm flipH="1">
                  <a:off x="6146280" y="4273200"/>
                  <a:ext cx="1140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7" name="Group 65"/>
                <p:cNvGrpSpPr/>
                <p:nvPr/>
              </p:nvGrpSpPr>
              <p:grpSpPr>
                <a:xfrm>
                  <a:off x="7286760" y="3390840"/>
                  <a:ext cx="0" cy="1499400"/>
                  <a:chOff x="7286760" y="3390840"/>
                  <a:chExt cx="0" cy="1499400"/>
                </a:xfrm>
              </p:grpSpPr>
              <p:sp>
                <p:nvSpPr>
                  <p:cNvPr id="668" name="Line 66"/>
                  <p:cNvSpPr/>
                  <p:nvPr/>
                </p:nvSpPr>
                <p:spPr>
                  <a:xfrm>
                    <a:off x="7286760" y="3390840"/>
                    <a:ext cx="0" cy="880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Line 67"/>
                  <p:cNvSpPr/>
                  <p:nvPr/>
                </p:nvSpPr>
                <p:spPr>
                  <a:xfrm>
                    <a:off x="7286760" y="4230000"/>
                    <a:ext cx="0" cy="6602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0" name="Line 68"/>
                <p:cNvSpPr/>
                <p:nvPr/>
              </p:nvSpPr>
              <p:spPr>
                <a:xfrm>
                  <a:off x="7286760" y="5330880"/>
                  <a:ext cx="0" cy="352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Text Box 70"/>
                <p:cNvSpPr/>
                <p:nvPr/>
              </p:nvSpPr>
              <p:spPr>
                <a:xfrm>
                  <a:off x="2482920" y="2866320"/>
                  <a:ext cx="2774880" cy="562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182880" tIns="46800" bIns="0" anchor="t">
                  <a:noAutofit/>
                </a:bodyPr>
                <a:p>
                  <a:pPr algn="ctr">
                    <a:spcAft>
                      <a:spcPts val="6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Design Phas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Input     Process    Outpu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Line 71"/>
                <p:cNvSpPr/>
                <p:nvPr/>
              </p:nvSpPr>
              <p:spPr>
                <a:xfrm>
                  <a:off x="3119400" y="3297960"/>
                  <a:ext cx="223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Line 72"/>
                <p:cNvSpPr/>
                <p:nvPr/>
              </p:nvSpPr>
              <p:spPr>
                <a:xfrm>
                  <a:off x="4133880" y="3297960"/>
                  <a:ext cx="200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Line 73"/>
                <p:cNvSpPr/>
                <p:nvPr/>
              </p:nvSpPr>
              <p:spPr>
                <a:xfrm>
                  <a:off x="5267160" y="3164040"/>
                  <a:ext cx="190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Line 74"/>
                <p:cNvSpPr/>
                <p:nvPr/>
              </p:nvSpPr>
              <p:spPr>
                <a:xfrm>
                  <a:off x="5457960" y="3146400"/>
                  <a:ext cx="0" cy="443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Line 75"/>
                <p:cNvSpPr/>
                <p:nvPr/>
              </p:nvSpPr>
              <p:spPr>
                <a:xfrm flipH="1">
                  <a:off x="3033720" y="3571920"/>
                  <a:ext cx="2433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Line 76"/>
                <p:cNvSpPr/>
                <p:nvPr/>
              </p:nvSpPr>
              <p:spPr>
                <a:xfrm>
                  <a:off x="3052800" y="3571920"/>
                  <a:ext cx="0" cy="440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Line 77"/>
                <p:cNvSpPr/>
                <p:nvPr/>
              </p:nvSpPr>
              <p:spPr>
                <a:xfrm>
                  <a:off x="3052800" y="4012560"/>
                  <a:ext cx="19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Text Box 79"/>
                <p:cNvSpPr/>
                <p:nvPr/>
              </p:nvSpPr>
              <p:spPr>
                <a:xfrm>
                  <a:off x="3243240" y="3744360"/>
                  <a:ext cx="2700360" cy="56268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182880" tIns="46800" bIns="0" anchor="t">
                  <a:noAutofit/>
                </a:bodyPr>
                <a:p>
                  <a:pPr algn="ctr">
                    <a:spcAft>
                      <a:spcPts val="6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Development Phas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Input     Process    Outpu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Line 82"/>
                <p:cNvSpPr/>
                <p:nvPr/>
              </p:nvSpPr>
              <p:spPr>
                <a:xfrm>
                  <a:off x="5956200" y="4042080"/>
                  <a:ext cx="19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Line 83"/>
                <p:cNvSpPr/>
                <p:nvPr/>
              </p:nvSpPr>
              <p:spPr>
                <a:xfrm>
                  <a:off x="6146640" y="4024080"/>
                  <a:ext cx="0" cy="413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Line 84"/>
                <p:cNvSpPr/>
                <p:nvPr/>
              </p:nvSpPr>
              <p:spPr>
                <a:xfrm flipH="1">
                  <a:off x="3793680" y="4449960"/>
                  <a:ext cx="2367000" cy="1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Line 85"/>
                <p:cNvSpPr/>
                <p:nvPr/>
              </p:nvSpPr>
              <p:spPr>
                <a:xfrm>
                  <a:off x="3813120" y="4449960"/>
                  <a:ext cx="0" cy="440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Line 86"/>
                <p:cNvSpPr/>
                <p:nvPr/>
              </p:nvSpPr>
              <p:spPr>
                <a:xfrm>
                  <a:off x="3813120" y="4890600"/>
                  <a:ext cx="19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Text Box 88"/>
                <p:cNvSpPr/>
                <p:nvPr/>
              </p:nvSpPr>
              <p:spPr>
                <a:xfrm>
                  <a:off x="4000680" y="4678560"/>
                  <a:ext cx="2705040" cy="5623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182880" tIns="46800" bIns="0" anchor="t">
                  <a:noAutofit/>
                </a:bodyPr>
                <a:p>
                  <a:pPr algn="ctr">
                    <a:spcAft>
                      <a:spcPts val="6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Implementation Phas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Input     Process    Outpu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Line 91"/>
                <p:cNvSpPr/>
                <p:nvPr/>
              </p:nvSpPr>
              <p:spPr>
                <a:xfrm>
                  <a:off x="6705720" y="4983480"/>
                  <a:ext cx="19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Line 92"/>
                <p:cNvSpPr/>
                <p:nvPr/>
              </p:nvSpPr>
              <p:spPr>
                <a:xfrm>
                  <a:off x="6877080" y="4974480"/>
                  <a:ext cx="0" cy="40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Line 93"/>
                <p:cNvSpPr/>
                <p:nvPr/>
              </p:nvSpPr>
              <p:spPr>
                <a:xfrm flipH="1">
                  <a:off x="4570200" y="5391360"/>
                  <a:ext cx="2330280" cy="1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Line 94"/>
                <p:cNvSpPr/>
                <p:nvPr/>
              </p:nvSpPr>
              <p:spPr>
                <a:xfrm>
                  <a:off x="4570560" y="5375160"/>
                  <a:ext cx="0" cy="13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Line 95"/>
                <p:cNvSpPr/>
                <p:nvPr/>
              </p:nvSpPr>
              <p:spPr>
                <a:xfrm>
                  <a:off x="4761000" y="6073560"/>
                  <a:ext cx="782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Text Box 96"/>
                <p:cNvSpPr/>
                <p:nvPr/>
              </p:nvSpPr>
              <p:spPr>
                <a:xfrm>
                  <a:off x="5532480" y="5682960"/>
                  <a:ext cx="2773440" cy="56268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182880" tIns="46800" bIns="0" anchor="t">
                  <a:noAutofit/>
                </a:bodyPr>
                <a:p>
                  <a:pPr algn="ctr">
                    <a:spcAft>
                      <a:spcPts val="6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Evaluation Phas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Input     Process    Outpu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Line 97"/>
                <p:cNvSpPr/>
                <p:nvPr/>
              </p:nvSpPr>
              <p:spPr>
                <a:xfrm>
                  <a:off x="7286760" y="6257520"/>
                  <a:ext cx="0" cy="142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Line 98"/>
                <p:cNvSpPr/>
                <p:nvPr/>
              </p:nvSpPr>
              <p:spPr>
                <a:xfrm flipH="1">
                  <a:off x="1900080" y="6388560"/>
                  <a:ext cx="5405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Line 99"/>
                <p:cNvSpPr/>
                <p:nvPr/>
              </p:nvSpPr>
              <p:spPr>
                <a:xfrm flipV="1">
                  <a:off x="1913040" y="2542320"/>
                  <a:ext cx="0" cy="3846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Line 100"/>
                <p:cNvSpPr/>
                <p:nvPr/>
              </p:nvSpPr>
              <p:spPr>
                <a:xfrm>
                  <a:off x="2292480" y="3306600"/>
                  <a:ext cx="0" cy="308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01"/>
                <p:cNvSpPr/>
                <p:nvPr/>
              </p:nvSpPr>
              <p:spPr>
                <a:xfrm flipV="1">
                  <a:off x="3527280" y="4305600"/>
                  <a:ext cx="0" cy="2082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Line 102"/>
                <p:cNvSpPr/>
                <p:nvPr/>
              </p:nvSpPr>
              <p:spPr>
                <a:xfrm flipV="1">
                  <a:off x="4078440" y="5286600"/>
                  <a:ext cx="0" cy="1101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103"/>
                <p:cNvSpPr/>
                <p:nvPr/>
              </p:nvSpPr>
              <p:spPr>
                <a:xfrm>
                  <a:off x="7010280" y="4861080"/>
                  <a:ext cx="1660680" cy="425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roces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Evaluation Dat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Line 105"/>
                <p:cNvSpPr/>
                <p:nvPr/>
              </p:nvSpPr>
              <p:spPr>
                <a:xfrm>
                  <a:off x="3908520" y="4172760"/>
                  <a:ext cx="223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06"/>
                <p:cNvSpPr/>
                <p:nvPr/>
              </p:nvSpPr>
              <p:spPr>
                <a:xfrm>
                  <a:off x="4896000" y="417276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07"/>
                <p:cNvSpPr/>
                <p:nvPr/>
              </p:nvSpPr>
              <p:spPr>
                <a:xfrm>
                  <a:off x="2357280" y="2405160"/>
                  <a:ext cx="223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08"/>
                <p:cNvSpPr/>
                <p:nvPr/>
              </p:nvSpPr>
              <p:spPr>
                <a:xfrm>
                  <a:off x="3362400" y="2413800"/>
                  <a:ext cx="199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Line 109"/>
                <p:cNvSpPr/>
                <p:nvPr/>
              </p:nvSpPr>
              <p:spPr>
                <a:xfrm>
                  <a:off x="4651200" y="5110200"/>
                  <a:ext cx="223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10"/>
                <p:cNvSpPr/>
                <p:nvPr/>
              </p:nvSpPr>
              <p:spPr>
                <a:xfrm>
                  <a:off x="5638680" y="5110200"/>
                  <a:ext cx="200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Line 111"/>
                <p:cNvSpPr/>
                <p:nvPr/>
              </p:nvSpPr>
              <p:spPr>
                <a:xfrm>
                  <a:off x="6184800" y="6117840"/>
                  <a:ext cx="223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Line 112"/>
                <p:cNvSpPr/>
                <p:nvPr/>
              </p:nvSpPr>
              <p:spPr>
                <a:xfrm>
                  <a:off x="7172280" y="6117840"/>
                  <a:ext cx="209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7" name="Line 114"/>
              <p:cNvSpPr/>
              <p:nvPr/>
            </p:nvSpPr>
            <p:spPr>
              <a:xfrm>
                <a:off x="2286000" y="3324240"/>
                <a:ext cx="209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Line 116"/>
              <p:cNvSpPr/>
              <p:nvPr/>
            </p:nvSpPr>
            <p:spPr>
              <a:xfrm>
                <a:off x="4572000" y="5375160"/>
                <a:ext cx="0" cy="123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9" name="Text Box 120"/>
            <p:cNvSpPr/>
            <p:nvPr/>
          </p:nvSpPr>
          <p:spPr>
            <a:xfrm>
              <a:off x="914400" y="3996360"/>
              <a:ext cx="1219320" cy="5806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iggering Ev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0" name="Slide Number Placeholder 60"/>
          <p:cNvSpPr/>
          <p:nvPr/>
        </p:nvSpPr>
        <p:spPr>
          <a:xfrm>
            <a:off x="8458200" y="63244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assification of Learning Outcom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2" name="Footer Placeholder 3"/>
          <p:cNvSpPr/>
          <p:nvPr/>
        </p:nvSpPr>
        <p:spPr>
          <a:xfrm>
            <a:off x="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pyright c 2010 Pearson Education, Inc. Publishing as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Group 9"/>
          <p:cNvGrpSpPr/>
          <p:nvPr/>
        </p:nvGrpSpPr>
        <p:grpSpPr>
          <a:xfrm>
            <a:off x="636480" y="2133720"/>
            <a:ext cx="7898040" cy="4111560"/>
            <a:chOff x="636480" y="2133720"/>
            <a:chExt cx="7898040" cy="4111560"/>
          </a:xfrm>
        </p:grpSpPr>
        <p:sp>
          <p:nvSpPr>
            <p:cNvPr id="714" name="Text Box 5"/>
            <p:cNvSpPr/>
            <p:nvPr/>
          </p:nvSpPr>
          <p:spPr>
            <a:xfrm>
              <a:off x="3105000" y="2133720"/>
              <a:ext cx="2961000" cy="131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kill-Based Learn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i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tomatic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6"/>
            <p:cNvSpPr/>
            <p:nvPr/>
          </p:nvSpPr>
          <p:spPr>
            <a:xfrm>
              <a:off x="636480" y="4929120"/>
              <a:ext cx="2962440" cy="131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gnitive Knowled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clarative Knowled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dural Knowled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ategic Knowled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7"/>
            <p:cNvSpPr/>
            <p:nvPr/>
          </p:nvSpPr>
          <p:spPr>
            <a:xfrm>
              <a:off x="5572080" y="4929120"/>
              <a:ext cx="2962440" cy="131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itudinal Learn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ffect/Feelin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8"/>
            <p:cNvSpPr/>
            <p:nvPr/>
          </p:nvSpPr>
          <p:spPr>
            <a:xfrm>
              <a:off x="3414600" y="3284640"/>
              <a:ext cx="2303640" cy="18097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Lear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Slide Number Placeholder 10"/>
          <p:cNvSpPr/>
          <p:nvPr/>
        </p:nvSpPr>
        <p:spPr>
          <a:xfrm>
            <a:off x="8458200" y="63244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-</a:t>
            </a:r>
            <a:fld id="{09AD3D75-64A8-4036-AF3A-559D385D47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9:28:52Z</dcterms:created>
  <dc:creator>user</dc:creator>
  <dc:description/>
  <dc:language>en-US</dc:language>
  <cp:lastModifiedBy>Mami</cp:lastModifiedBy>
  <dcterms:modified xsi:type="dcterms:W3CDTF">2009-07-17T19:10:41Z</dcterms:modified>
  <cp:revision>106</cp:revision>
  <dc:subject/>
  <dc:title>No Trait and Treatment Interaction</dc:title>
</cp:coreProperties>
</file>